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B88-B93C-46BD-BAD1-6A951009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FC6-D72D-49B4-B137-ABE264A4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AC9-2A47-4953-AD45-75DF2D85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B94-F429-409C-8DBC-F845FEBE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EBD0-2046-4A85-BF93-E63C88C9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5230-0612-4E08-A666-DCBD7EA8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B711-7F82-496D-84F8-5AFD8664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EBBE-BF97-4C36-BB15-DE8052DA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8CA0-590D-496C-9DA7-A5B46B94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1215-6EE3-4BEA-B01C-43DE88B1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0549-C878-48BB-B635-340859FC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C78-6C40-42DF-AE97-64ED8FA4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7D24-F78D-4ADE-A2B4-BBAC2105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18E0-DB14-469C-BC20-0D56F8FD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0A97-EC21-44CC-A9FC-3C92B392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BCFF-78E1-4AD0-8C84-7C4F7679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EF75-05CB-43D0-BEC8-38B05F0E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99A-69F4-4DA4-A2B4-7C07DF8F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963-12D3-427F-A0B2-CF48819E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C83-386C-4996-B2D6-9FCD2B73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94E-B6BA-4574-B729-02600A11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842-BC7B-44DE-BC54-907584A9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019-07DA-4FAE-BEA8-1050B99A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282-3F50-441E-946D-CF4E1478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6B23-FFD4-4B76-8994-864CD8670A8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D330-1EFC-467B-BB3F-816CA45A78C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56840" y="1213920"/>
            <a:ext cx="6758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9600" spc="-1" strike="noStrike">
                <a:solidFill>
                  <a:srgbClr val="000066"/>
                </a:solidFill>
                <a:latin typeface="Book Antiqua"/>
              </a:rPr>
              <a:t>Flüsse der Republik Kom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4957920"/>
            <a:ext cx="91440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 algn="ctr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2060"/>
                </a:solidFill>
                <a:latin typeface="Book Antiqua"/>
              </a:rPr>
              <a:t>Die W</a:t>
            </a:r>
            <a:r>
              <a:rPr b="1" i="1" lang="en-US" sz="3200" spc="-1" strike="noStrike">
                <a:solidFill>
                  <a:srgbClr val="002060"/>
                </a:solidFill>
                <a:latin typeface="Book Antiqua"/>
              </a:rPr>
              <a:t>y</a:t>
            </a:r>
            <a:r>
              <a:rPr b="1" i="1" lang="de-DE" sz="3200" spc="-1" strike="noStrike">
                <a:solidFill>
                  <a:srgbClr val="002060"/>
                </a:solidFill>
                <a:latin typeface="Book Antiqua"/>
              </a:rPr>
              <a:t>tschegda verlasst die Republik im Süden und mündet als Nebenfluss in die Norddwina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,</a:t>
            </a:r>
            <a:r>
              <a:rPr b="1" i="1" lang="de-DE" sz="3200" spc="-1" strike="noStrike">
                <a:solidFill>
                  <a:srgbClr val="002060"/>
                </a:solidFill>
                <a:latin typeface="Book Antiqua"/>
              </a:rPr>
              <a:t> die ins Weiße Meer ihr Gewässer treib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213760" cy="4927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 algn="ctr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Die Mesen </a:t>
            </a:r>
            <a:r>
              <a:rPr b="1" i="1" lang="en-US" sz="3600" spc="-1" strike="noStrike">
                <a:solidFill>
                  <a:srgbClr val="003300"/>
                </a:solidFill>
                <a:latin typeface="Book Antiqua"/>
              </a:rPr>
              <a:t>z</a:t>
            </a: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ählt auch </a:t>
            </a:r>
            <a:r>
              <a:rPr b="1" i="1" lang="en-US" sz="3600" spc="-1" strike="noStrike">
                <a:solidFill>
                  <a:srgbClr val="003300"/>
                </a:solidFill>
                <a:latin typeface="Book Antiqua"/>
              </a:rPr>
              <a:t>zu den gr</a:t>
            </a: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ößten. Sie fließt nicht nur durch die RK sondern auch durch das Archangelsker Gebi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695340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48920" indent="-336960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Book Antiqua"/>
              </a:rPr>
              <a:t>Z</a:t>
            </a:r>
            <a:r>
              <a:rPr b="1" i="1" lang="de-DE" sz="4400" spc="-1" strike="noStrike">
                <a:solidFill>
                  <a:srgbClr val="cc3300"/>
                </a:solidFill>
                <a:latin typeface="Book Antiqua"/>
              </a:rPr>
              <a:t>u ihrem Nebenflüssen gehören</a:t>
            </a:r>
            <a:r>
              <a:rPr b="1" i="1" lang="en-US" sz="4400" spc="-1" strike="noStrike">
                <a:solidFill>
                  <a:srgbClr val="cc3300"/>
                </a:solidFill>
                <a:latin typeface="Book Antiqu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4749840" cy="3571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357800" y="3259080"/>
            <a:ext cx="4786200" cy="35989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1143000" y="4500720"/>
            <a:ext cx="26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die P</a:t>
            </a:r>
            <a:r>
              <a:rPr b="1" i="1" lang="en-US" sz="3600" spc="-1" strike="noStrike">
                <a:solidFill>
                  <a:srgbClr val="003300"/>
                </a:solidFill>
                <a:latin typeface="Book Antiqua"/>
              </a:rPr>
              <a:t>ys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899600" y="2428920"/>
            <a:ext cx="403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die gro</a:t>
            </a:r>
            <a:r>
              <a:rPr b="1" i="1" lang="ru-RU" sz="3600" spc="-1" strike="noStrike">
                <a:solidFill>
                  <a:srgbClr val="003300"/>
                </a:solidFill>
                <a:latin typeface="Times New Roman"/>
              </a:rPr>
              <a:t>ß</a:t>
            </a: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e Lopt</a:t>
            </a:r>
            <a:r>
              <a:rPr b="1" i="1" lang="en-US" sz="3600" spc="-1" strike="noStrike">
                <a:solidFill>
                  <a:srgbClr val="003300"/>
                </a:solidFill>
                <a:latin typeface="Book Antiqua"/>
              </a:rPr>
              <a:t>yg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000680" y="0"/>
            <a:ext cx="43574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 algn="ctr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660033"/>
                </a:solidFill>
                <a:latin typeface="Book Antiqua"/>
              </a:rPr>
              <a:t>Es gibt noch viele kleine und große Flüsse, </a:t>
            </a:r>
            <a:r>
              <a:rPr b="1" i="1" lang="en-US" sz="3600" spc="-1" strike="noStrike">
                <a:solidFill>
                  <a:srgbClr val="660033"/>
                </a:solidFill>
                <a:latin typeface="Book Antiqua"/>
              </a:rPr>
              <a:t>z.B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071960" y="1643040"/>
            <a:ext cx="4429080" cy="33228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4429080" y="178596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Book Antiqua"/>
              </a:rPr>
              <a:t>die Wisch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0" y="3357720"/>
            <a:ext cx="4095720" cy="30715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7"/>
          <p:cNvSpPr/>
          <p:nvPr/>
        </p:nvSpPr>
        <p:spPr>
          <a:xfrm>
            <a:off x="357120" y="364320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Book Antiqua"/>
              </a:rPr>
              <a:t>die Hul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5500800" y="4226040"/>
            <a:ext cx="3643200" cy="26319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9"/>
          <p:cNvSpPr/>
          <p:nvPr/>
        </p:nvSpPr>
        <p:spPr>
          <a:xfrm>
            <a:off x="6000840" y="428616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Book Antiqua"/>
              </a:rPr>
              <a:t>die Irw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0" y="428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Book Antiqua"/>
              </a:rPr>
              <a:t>die Emw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28760" y="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 algn="ctr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66"/>
                </a:solidFill>
                <a:latin typeface="Book Antiqua"/>
              </a:rPr>
              <a:t>Für mich ist die Lusa der beste Fluss. Sie fließt parallel der W</a:t>
            </a:r>
            <a:r>
              <a:rPr b="1" i="1" lang="en-US" sz="3600" spc="-1" strike="noStrike">
                <a:solidFill>
                  <a:srgbClr val="000066"/>
                </a:solidFill>
                <a:latin typeface="Book Antiqua"/>
              </a:rPr>
              <a:t>y</a:t>
            </a:r>
            <a:r>
              <a:rPr b="1" i="1" lang="de-DE" sz="3600" spc="-1" strike="noStrike">
                <a:solidFill>
                  <a:srgbClr val="000066"/>
                </a:solidFill>
                <a:latin typeface="Book Antiqua"/>
              </a:rPr>
              <a:t>tschegd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4524480" cy="410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4857840" y="1143000"/>
            <a:ext cx="4125960" cy="5500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14800" y="0"/>
            <a:ext cx="5929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660033"/>
                </a:solidFill>
                <a:latin typeface="Book Antiqua"/>
              </a:rPr>
              <a:t>Am Ufer der Lusa liegt mein Heimatdorf. Meine Kindheit, meine Erholung und viele meine Erinnerungen sind mit diesem Fluss verbunden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071960" y="3357720"/>
            <a:ext cx="5072040" cy="35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35496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-360" y="356760"/>
            <a:ext cx="40719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48920" indent="-336960" algn="ctr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Hier erhebt sich die bekannte Kirche des Prilusskij Gebi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42920" y="3214800"/>
            <a:ext cx="5753160" cy="36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4786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85480" y="-360"/>
            <a:ext cx="84294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66"/>
                </a:solidFill>
                <a:latin typeface="Book Antiqua"/>
              </a:rPr>
              <a:t>Die Flüsse spielen in der Welt eine große Rolle. Man kann das Leben ohne sie nicht vorstelle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85920" y="195732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786880" cy="6715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129280" y="3142800"/>
            <a:ext cx="40147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70880" indent="-35352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d0d0d"/>
                </a:solidFill>
                <a:latin typeface="Book Antiqua"/>
              </a:rPr>
              <a:t>Die meisten Ströme münden ins Weiße Meer und in die Barentssee</a:t>
            </a:r>
            <a:r>
              <a:rPr b="0" lang="de-DE" sz="4000" spc="-1" strike="noStrike">
                <a:solidFill>
                  <a:srgbClr val="0d0d0d"/>
                </a:solidFill>
                <a:latin typeface="Book Antiqu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0" y="214200"/>
            <a:ext cx="3857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d0d0d"/>
                </a:solidFill>
                <a:latin typeface="Book Antiqua"/>
              </a:rPr>
              <a:t>Die Republik Komi durchfließen mehr als 40 Flüsse</a:t>
            </a:r>
            <a:r>
              <a:rPr b="1" i="1" lang="de-DE" sz="3600" spc="-1" strike="noStrike">
                <a:solidFill>
                  <a:srgbClr val="0d0d0d"/>
                </a:solidFill>
                <a:latin typeface="Book Antiqua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3286080"/>
            <a:ext cx="5281560" cy="357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4195800" y="0"/>
            <a:ext cx="49482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0040" y="214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 algn="ctr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00"/>
                </a:solidFill>
                <a:latin typeface="Book Antiqua"/>
              </a:rPr>
              <a:t>Die Petschora ist der größte und längste Fluss der R.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071720" y="1428840"/>
            <a:ext cx="7143480" cy="5162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6286320" cy="642276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6429240" y="714240"/>
            <a:ext cx="2714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3300"/>
                </a:solidFill>
                <a:latin typeface="Book Antiqua"/>
              </a:rPr>
              <a:t>Sie tränkt mit ihrem Wasser viele Menschen und Tiere, Äcker, Wiesen, Wälder und Gärt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00040" y="492912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 algn="ctr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660033"/>
                </a:solidFill>
                <a:latin typeface="Book Antiqua"/>
              </a:rPr>
              <a:t>Der mächtige Strom nimmt im Ural seinen Lauf, durch</a:t>
            </a:r>
            <a:r>
              <a:rPr b="1" i="1" lang="en-US" sz="3200" spc="-1" strike="noStrike">
                <a:solidFill>
                  <a:srgbClr val="660033"/>
                </a:solidFill>
                <a:latin typeface="Book Antiqua"/>
              </a:rPr>
              <a:t>z</a:t>
            </a:r>
            <a:r>
              <a:rPr b="1" i="1" lang="de-DE" sz="3200" spc="-1" strike="noStrike">
                <a:solidFill>
                  <a:srgbClr val="660033"/>
                </a:solidFill>
                <a:latin typeface="Book Antiqua"/>
              </a:rPr>
              <a:t>ieht das Territorium der Petschora</a:t>
            </a:r>
            <a:r>
              <a:rPr b="1" i="1" lang="en-US" sz="3200" spc="-1" strike="noStrike">
                <a:solidFill>
                  <a:srgbClr val="660033"/>
                </a:solidFill>
                <a:latin typeface="Book Antiqua"/>
              </a:rPr>
              <a:t>-</a:t>
            </a:r>
            <a:r>
              <a:rPr b="1" i="1" lang="de-DE" sz="3200" spc="-1" strike="noStrike">
                <a:solidFill>
                  <a:srgbClr val="660033"/>
                </a:solidFill>
                <a:latin typeface="Book Antiqua"/>
              </a:rPr>
              <a:t>Tiefebene im Norden und</a:t>
            </a: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de-DE" sz="3200" spc="-1" strike="noStrike">
                <a:solidFill>
                  <a:srgbClr val="660033"/>
                </a:solidFill>
                <a:latin typeface="Book Antiqua"/>
              </a:rPr>
              <a:t>mündet in die Barentsse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85880" y="214200"/>
            <a:ext cx="80010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10400" indent="-30816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2060"/>
                </a:solidFill>
                <a:latin typeface="Book Antiqua"/>
              </a:rPr>
              <a:t>Die Petschora hat solche Nebenflüsse wie</a:t>
            </a:r>
            <a:r>
              <a:rPr b="1" i="1" lang="en-US" sz="4000" spc="-1" strike="noStrike">
                <a:solidFill>
                  <a:srgbClr val="002060"/>
                </a:solidFill>
                <a:latin typeface="Book Antiqu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1214280"/>
            <a:ext cx="471492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286160" y="3662280"/>
            <a:ext cx="4857840" cy="31957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779040" y="435780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d0d0d"/>
                </a:solidFill>
                <a:latin typeface="Book Antiqua"/>
              </a:rPr>
              <a:t>die Us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857920" y="307368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Calibri"/>
                <a:ea typeface="Calibri"/>
              </a:rPr>
              <a:t>der 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1" i="1" lang="de-DE" sz="3600" spc="-1" strike="noStrike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1" i="1" lang="de-DE" sz="3600" spc="-1" strike="noStrike">
                <a:solidFill>
                  <a:srgbClr val="000000"/>
                </a:solidFill>
                <a:latin typeface="Calibri"/>
                <a:ea typeface="Calibri"/>
              </a:rPr>
              <a:t>ts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Book Antiqua"/>
              </a:rPr>
              <a:t>und die schöne Ishm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4786200" y="928800"/>
            <a:ext cx="4048200" cy="3036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2143080" y="3794040"/>
            <a:ext cx="450072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8584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 algn="ctr">
              <a:lnSpc>
                <a:spcPct val="10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660033"/>
                </a:solidFill>
                <a:latin typeface="Book Antiqua"/>
              </a:rPr>
              <a:t>Die Hauptstadt der RK Syktywkar liegt am Ufer der Syssola, die ihre Quelle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1071720"/>
            <a:ext cx="515952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3367080" y="3257640"/>
            <a:ext cx="5776920" cy="3600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5186160" y="1000080"/>
            <a:ext cx="362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660033"/>
                </a:solidFill>
                <a:latin typeface="Book Antiqua"/>
              </a:rPr>
              <a:t>in Kirower Gebi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660033"/>
                </a:solidFill>
                <a:latin typeface="Book Antiqua"/>
              </a:rPr>
              <a:t>h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8:05:45Z</dcterms:created>
  <dc:creator>Катерина</dc:creator>
  <dc:description/>
  <dc:language>en-US</dc:language>
  <cp:lastModifiedBy>Катерина</cp:lastModifiedBy>
  <dcterms:modified xsi:type="dcterms:W3CDTF">2011-10-30T17:57:18Z</dcterms:modified>
  <cp:revision>43</cp:revision>
  <dc:subject/>
  <dc:title>Слайд 1</dc:title>
</cp:coreProperties>
</file>